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FD2-72FA-411F-81AF-26398411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A01-C8B6-4539-965D-E151394F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FF06-6140-4166-938E-A2276201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26B-4B08-4A21-81B3-19E7CA8A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8B03-741C-4070-B264-19686E12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7C59-738C-42D6-8C92-5E1AF79C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FC25-293A-4CE3-962F-8B5AB063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795D-E52B-47DF-9B57-53A4C8C1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E285-6D73-427B-8247-C429D980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A13C-6C24-45FD-9F31-23EFCCE4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0BFB-8CB6-4DCC-8E6C-FA745455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AD6-A7FC-4CAE-9B05-56A25760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2DE9-476E-4618-BD69-F2162DF7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B61F-35BA-4CE9-98F7-FD3649AB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DA42-AA8E-4BF7-A511-2F3CCBF6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E7E3-B4BD-4CAB-803A-1F93034B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7614-04DD-4734-9049-79E61AE9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550-7132-403C-AD06-109CDF10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ACEB-1822-4E12-8D5D-1DB4962D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5ED-5E49-4CA7-90E7-C7839E0F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7ED-74E7-4C82-9537-D813189F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C65-C4C5-44E4-A7BE-455BF386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726-5AB4-41EB-80B1-B15B7138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510-3644-4A11-9807-0E633125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8D6B-8F8F-48EB-ADA4-DD765BA8B1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10FA-6FC5-4E02-93B4-7E5EA992E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 20 - 24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Inheritance of the Levites and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he Land Promise Fulfilled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Quarter 3; Lesson 7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ages 42 -48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 the Days of the Judges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Bones of Joseph Buried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24:32-3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oseph had requested that his bones be carried from Egypt (Gen. 50:25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ses took his bones out (Ex. 13:19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w, his bones are buried in Shechem, in land bought by his father (Gen. 24:32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(Shechem was in the territory of Ephraim.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Eleazar Dies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24:3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ried in a hill that belonged to Phinehas his son in Ephrai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943600" y="1371600"/>
            <a:ext cx="2514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ast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la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moth-Gilea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zer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324480" y="3657600"/>
            <a:ext cx="1981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st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odesh,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hechem,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ebr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3505320"/>
            <a:ext cx="320040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1143000"/>
            <a:ext cx="320040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1522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ities of Refuge (20:1-9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943600"/>
            <a:ext cx="2971800" cy="0"/>
          </a:xfrm>
          <a:prstGeom prst="line">
            <a:avLst/>
          </a:prstGeom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172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hat was their purpos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05160" y="30492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Inheritance of the Levites (21:1 - 21:42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3760" y="12952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ities of the Levite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0:1-4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ow many?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886200"/>
            <a:ext cx="37339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:4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 Lord gave them peac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:4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15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ll God’s promises to Israel came to pas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:4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52880" y="3200400"/>
            <a:ext cx="4038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nd Promise Fulfilled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00800" y="83772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ities of the Levite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he Trans-Jordanic Tribes Return Home (22:1-34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oshua calls the Reubenites, Gadites and the half tribe of Manasseh togeth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is commands them to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ake heed to the law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Love the Lord your Go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alk in all His way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Keep His commandmen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leave to Him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rve Him with all your heart and all your sou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departing soldiers antagonize rest of Isra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’s Charge to the Leaders of Israel  (23:1-16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e courageous and keep all the commandments (23:6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o not go among the nations that remain (23:7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ke heed to love the Lord your God (23:11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f you mix with these nations, you shall perish from the land (23:12-13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 am going in all the ways of the earth (23:14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is warning if the forsake God (23:15-16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’s Reminds All Israel of Their History (24:1-13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our ancestors (Terah) served other go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 brought Abraham from beyond the Euphrates to the land of Canaa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ltiplied his nation through Isaac and then though Jacob and Esau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acob went down to Egyp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ses and Aaron sent and God plagued Egyp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rought Israel out of Egypt and across the Red Sea; and destroyed the Egyptia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Joshua’s Reminds All Israel of Their History (24:1-13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y dwelt in the wilderness a long tim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Amorites were delivered to them and you took their lan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alak, king of Moab, fought against Israel but God blessed you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ou crossed the Jordan River and God delivered all of the nations of Canaan into your hand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od gave you land you did not have to work, cities you did not build, vineyards and olive-yards you did not pla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Death of Joshua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24:29-31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ge 11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uried in Timnath-serah, his inheritance in the hill-country of Ephraim – the city he buil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5:49:04Z</dcterms:created>
  <dc:creator>Don Vines</dc:creator>
  <dc:description/>
  <dc:language>en-US</dc:language>
  <cp:lastModifiedBy>Frank D Vines</cp:lastModifiedBy>
  <dcterms:modified xsi:type="dcterms:W3CDTF">2008-09-20T19:49:02Z</dcterms:modified>
  <cp:revision>25</cp:revision>
  <dc:subject/>
  <dc:title>Joshua 20 - 24 Inheritance for the Levites</dc:title>
</cp:coreProperties>
</file>